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Img"/>
          </p:nvPr>
        </p:nvSpPr>
        <p:spPr>
          <a:xfrm>
            <a:off x="895320" y="745920"/>
            <a:ext cx="4967280" cy="3725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9443880"/>
            <a:ext cx="2930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26"/>
          </p:nvPr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23D1-AC8D-4C7B-8B41-B8BE49C00B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E8599-9CE2-4D7D-B053-9A6B508E04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3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CDA91-A6EF-43C3-9358-452EE98B32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E081-A8E7-43C8-A28F-8AF645D1D4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5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92B7-4DA6-4323-B0C7-465A6CCBE6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4AC1C-8B18-4AD0-BB41-78A0A72213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1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20E23-BC6A-47A5-952D-592C544A96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8B2FA-A88D-4D30-974A-051034494E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4CED5-14D0-4F91-BB8B-1F2C139714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7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A6FDA-8EB8-4575-AEAD-37B96163CE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CF051-F17C-42ED-824C-10B6F66582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B510A-0C54-4B8A-AC73-5DF9479F00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01AE-5AED-4696-A30A-1020C134AE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E01CD-963F-4996-9982-0293C52050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9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4F867-574D-4BB4-99E9-C6EDA1BCD5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AC9E-F7A1-4AD1-850E-3098EF87B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4406-6F5D-4B5E-9BCA-D65F277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8170-6B03-4E26-B7C1-8B514CFB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A828-A80E-4C0D-ACDB-28326A2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C1684-9890-478C-8691-EC825BB9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D372-50DD-4B76-9732-C2B8CB46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B670-395A-47C2-A1CF-6DFB14C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624B-4CF2-45FF-BD7E-437EF347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E5130-A407-442E-8FC7-2072BC6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834F-EB8F-4915-AE96-4658DA8F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CC8B-E61F-403D-93BB-0B6A42DFB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5B874-A499-4038-A12A-7B2988F6B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A0D0-8F9F-4D38-9CD4-8906973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A22C2-68F5-4F39-A70C-A27D0E9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99A5C-F71C-4FB3-852D-A9526D7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53C5D-7A76-42CA-AE9E-DB149E0B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B1651-65A4-469F-92B1-9F65DC5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3BD12-1B93-4F4D-A6B2-FD604B72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34445-7C83-45EF-933F-A19DAED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66050-D24E-4C52-9E10-4FC9D5A6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99FD7-A794-432E-BE47-51F1392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9B676-3A1B-4B21-BAB9-27D5F028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96D1A-F1B4-45ED-BF4F-3C3675B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B8EE-B67B-493E-9EC4-60A7CF359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E284B-38FB-42EF-86F3-EB8F46A34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A836D8-B91B-4388-B72C-BC5E80C0E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BD524-D528-4D67-8BA1-E3F8D1E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CE9B89-425A-428E-BE7E-1CE52CE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912046-FFF3-4CBD-934A-194A147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1697B-088E-4F0C-85F3-8E269CB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7B653-7CD4-4EE9-B778-F5699BBD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5FBF6D-AE95-4994-BA5F-88AA1BA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B44F4-4E8D-47EC-BCFF-32F3BE71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5D523-456A-4127-A601-D27251C2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F2152-5FB4-4100-A53C-B8C657B38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AA19A-1DA3-4827-8AC2-53E3A17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AAD61B-AFA5-4A52-B97C-6F7B6BE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913B5-D063-4A49-98B8-ADC863979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FAB44-62C8-445A-BCBA-77EB95615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FA85-048A-4614-B3B0-AAB32EF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B0C91-5154-450F-89AD-571E7DA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634F-90B5-450E-AE4B-8388746D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2CC9-65D2-4AF1-BE05-66DE09E0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D400-1FCF-4F6F-9834-D6454E43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B84F5-EAC7-440E-8DF2-3AF4A853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8CE24-71B1-4ABF-8461-E2C4B74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1738-9A1B-4147-A0DD-6564E2F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83B4-1E5A-4D96-ABD9-0E1C3EE8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50FE-D9A1-474F-8752-D5992C7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1183-E7E0-48E5-95E1-48F9C0F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5470-7008-4886-B5F6-46C75077C0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E958-D5F2-449A-953A-240C8E2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216AF-A9C2-4EB9-8870-85BD3E5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A59D-C7E7-4073-BCD4-F1B6C9FF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BEFE1-CEFD-4746-8C89-602DAB47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58EB-08FA-49F8-BFC2-E278F5E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49B4-F084-44A2-B97E-ECC6834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6E669-A10D-4508-8EE9-52EB5BA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ADD3-F0E0-495B-8F74-6D0EAD0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EFA54-03A6-4ED6-A86C-D576DF1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851E8-4C43-49D9-B152-02B0610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E512E-AEAB-46C3-947E-AADDB13B6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6365-E5D6-4D84-A70B-187476D18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CF3-35A1-4CA4-A976-E8FD603B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43BC-97E7-49AB-B2C8-46AFA5F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F88C-F70F-4DAF-B37F-EA69A4F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2F9F-6379-4A8F-85F0-6EB0D519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92C1-1C6D-41B3-8BFA-861648BD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0DE7-130F-4627-84D6-F5C5483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B17-0DF1-49CB-9631-4E411DB3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E02C-E2DA-4AD3-81F9-9DE04130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7FA5-4002-4F9E-96E9-D331C9C5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723-F455-4F20-A9AC-7C97185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D666-BF82-4F0F-8449-9180AEF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9472-A000-4775-A2B4-97828BEE5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B3AA-8E4A-4975-BC43-A579EBD36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DC8AC-43C1-4F8E-9AC9-A49F7E6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27F21-2A10-492E-AE14-FCA08623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3F06-A06A-40EC-AD29-671359C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E314B-9FC9-44FD-B3D4-997DB023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0E4FD-5C43-4C18-AD0D-2D35ECB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368F7-F082-4C19-B020-EE499D41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B5AFC-90B6-4E32-AC41-7A399D3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B2FA5-9082-47DB-B59F-06C74854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203FC-C8A6-42E4-9BD1-1219CBDE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D186C-6CD3-4D12-BD25-94A641D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5CB11-F280-4D99-8977-77636DC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BA15E-4424-4021-A60A-CD014226E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9AF52-AC55-4B03-9047-BE3230F0BE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8F43-3104-40D4-BE65-5D75C3DD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E7C67-31A3-4AF5-A8C1-A646F01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6F71C-E5FB-4D71-B09E-19ABA84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53426-25AE-4347-9103-39AE1531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B6405-70BC-45CF-BDFF-4DB8AA4E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AD3A8-9231-4BC6-91B7-377B5CE0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6D7CC-D54F-4455-96E9-8560742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1ADD7-9477-4BD1-9A30-CEBD661A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3756F-D722-490C-BA0A-07A9A8D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B242B-520D-413F-9F15-CD3F4B99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DD0F6-454A-4979-B7A3-3B74719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E795-1CFA-4E8B-98F6-8C1278E3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90600-431E-4A93-A88C-6768A3BE72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EA30-3E59-4715-A21A-1956AFB19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2E81-44CD-4A40-9252-60917D0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0115-3ACC-40DE-8D64-1BE00D79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DA05-C025-4465-9657-97147E90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24A3-1442-49DF-8A96-047D68FE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AE6F-A5DE-4AEC-B168-1EA06E5A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28B4-75DF-4827-8918-D4E0CB29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EE86-6373-4900-9158-88BA97C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585F-1C51-4CF6-BAAD-7495D27C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F8A3-018E-47F8-A852-963FCE8A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6250-4269-48E1-A8BB-E88E3EF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AC9B-EE6C-4411-BEA1-A54D139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C0E8-D953-4A50-A443-D933BF135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31851-D70C-4010-B86B-079DEE22E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B24EE-53E2-4EFF-B00C-816EC3B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96C33-B9EF-4EA9-B01B-D7824BA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26D1E-D505-469E-BA58-E4CB3EF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B678E-B393-433B-A528-54E4F6F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C84E0-7DB4-402A-B377-4A79B685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4AC09-AC7A-4AF2-9A48-E4415FEF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230D-812F-4334-8BF0-4B51D4FB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DFC20-76D5-4692-B885-68F643C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F5650-EF05-469B-8F12-927F5EA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11BB0-0B79-48D9-95EF-7C5E7094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BC025-D920-42C8-9910-FF799FE1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261F9-B441-4B3D-B901-9A29FC99F6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8E379-B275-4010-9D79-46C2FE03F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D9082-9386-4FF9-8526-682EDDF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18EE3-C5ED-40A9-809A-8C324B67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5A257-83B3-41E6-944D-F9191A6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1AEE1-D1D9-4CD9-9085-8EDA1577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2032-88D9-421A-A639-BDEB2972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C6462-98A2-4C13-81BE-103E461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F8E061-5E9E-46B9-AEA8-43BA1872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CFAE9C-FC55-4C69-B285-26758BE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2CD72-9CB4-4A5B-B99F-78656186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93510-D73F-422D-908A-5399CD4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FF140-BB7C-4C8A-9589-9B2A5E2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F5D7B-527B-4ADF-8CED-799E00D06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A7DE-BED9-4EEB-89BA-A050031C9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C681-48BD-4BCB-BE93-4122E78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9B22-8676-4D50-9B07-9CE22EC9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.0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C731F-C54E-43D0-9824-1DFB447217A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742DF-998F-48B5-98C1-CDBD5A6AA3C3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5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6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46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ABEFD-242B-4FFB-9D07-BCD0B161F5FD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C6EAA-9D44-444B-8A63-EDE350A0A993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12640" y="4029120"/>
            <a:ext cx="8628120" cy="9360"/>
            <a:chOff x="512640" y="4029120"/>
            <a:chExt cx="8628120" cy="936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402912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D8C281-D38A-4FD4-B42D-F0E80BFBC8E7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E65C9-F895-4D42-B1A4-95EAEC13F7FB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12640" y="3438360"/>
            <a:ext cx="8628120" cy="8280"/>
            <a:chOff x="512640" y="3438360"/>
            <a:chExt cx="8628120" cy="828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8120" cy="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A21DF-4B3C-4B28-AAFD-830A832D55DC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9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9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6798-ABB5-43DE-9890-B478C9F15405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512640" y="6016680"/>
            <a:ext cx="8628120" cy="9360"/>
            <a:chOff x="512640" y="6016680"/>
            <a:chExt cx="8628120" cy="936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58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814860-FDE3-4F2C-A072-BA2DC2DCE403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3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6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289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Эффективное управление временем и ресурсами.                                                                                            </a:t>
            </a:r>
            <a:fld id="{2B4D4EFB-78A2-4B3E-91E3-3A12A6F7C362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7F15-70A8-499B-A841-9C0A97C31700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512640" y="5846760"/>
            <a:ext cx="8628120" cy="7920"/>
            <a:chOff x="512640" y="5846760"/>
            <a:chExt cx="8628120" cy="7920"/>
          </a:xfrm>
        </p:grpSpPr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30FE8-9E27-4303-A1BF-A3418165C49A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361800" y="3500280"/>
            <a:ext cx="8458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ПРЕЗЕНТАЦИЯ ПРОЕКТА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«ВНЕДРЕНИЕ МЕХАНИЗМА ОТБОРА, ПОДГОТОВКИ И СОПРОВОЖДЕНИЯ СОЦИАЛЬНО-АКТИВНОЙ МОЛОДЕЖИ БЕЛГОРОДСКОЙ ОБЛАСТИ 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(МОЛОДЕЖНОЕ ПРАВИТЕЛЬСТВО) 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98520" y="1484280"/>
            <a:ext cx="8458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Департамент внутренней и кадров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Управление молодежн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468360" y="216000"/>
            <a:ext cx="1143000" cy="13604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34776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</a:rPr>
              <a:t>г. Белгород, 2017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79280" y="1052640"/>
          <a:ext cx="8732880" cy="4924440"/>
        </p:xfrm>
        <a:graphic>
          <a:graphicData uri="http://schemas.openxmlformats.org/drawingml/2006/table">
            <a:tbl>
              <a:tblPr/>
              <a:tblGrid>
                <a:gridCol w="374760"/>
                <a:gridCol w="1640880"/>
                <a:gridCol w="1296360"/>
                <a:gridCol w="934920"/>
                <a:gridCol w="926640"/>
                <a:gridCol w="222120"/>
                <a:gridCol w="222480"/>
                <a:gridCol w="222120"/>
                <a:gridCol w="222120"/>
                <a:gridCol w="222480"/>
                <a:gridCol w="222120"/>
                <a:gridCol w="222480"/>
                <a:gridCol w="222120"/>
                <a:gridCol w="222120"/>
                <a:gridCol w="222480"/>
                <a:gridCol w="234720"/>
                <a:gridCol w="216000"/>
                <a:gridCol w="222120"/>
                <a:gridCol w="222120"/>
                <a:gridCol w="222480"/>
                <a:gridCol w="21924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первой волны обучения для членом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9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проектов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74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6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азания содействия в трудоустройстве для членом молодё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grid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40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"/>
          <p:cNvSpPr/>
          <p:nvPr/>
        </p:nvSpPr>
        <p:spPr>
          <a:xfrm>
            <a:off x="457200" y="42876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79280" y="1052640"/>
          <a:ext cx="8856720" cy="2987640"/>
        </p:xfrm>
        <a:graphic>
          <a:graphicData uri="http://schemas.openxmlformats.org/drawingml/2006/table">
            <a:tbl>
              <a:tblPr/>
              <a:tblGrid>
                <a:gridCol w="322200"/>
                <a:gridCol w="3071880"/>
                <a:gridCol w="897120"/>
                <a:gridCol w="677880"/>
                <a:gridCol w="949320"/>
                <a:gridCol w="633240"/>
                <a:gridCol w="833400"/>
                <a:gridCol w="754200"/>
                <a:gridCol w="717480"/>
              </a:tblGrid>
              <a:tr h="289440"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Феде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ль-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ласт- 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- ные сре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обучения членов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текущей деятельности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 gridSpan="2">
                  <a:txBody>
                    <a:bodyPr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1"/>
          <p:cNvSpPr/>
          <p:nvPr/>
        </p:nvSpPr>
        <p:spPr>
          <a:xfrm>
            <a:off x="304920" y="3175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ФОРМЫ УЧАСТИЯ ОБЛАСТИ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 РЕАЛИЗАЦИИ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4861080" y="1522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-167400" y="6402240"/>
            <a:ext cx="58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13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казать основание выделения денежных сред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1112760"/>
          <a:ext cx="8815320" cy="5553000"/>
        </p:xfrm>
        <a:graphic>
          <a:graphicData uri="http://schemas.openxmlformats.org/drawingml/2006/table">
            <a:tbl>
              <a:tblPr/>
              <a:tblGrid>
                <a:gridCol w="1871640"/>
                <a:gridCol w="2233800"/>
                <a:gridCol w="142920"/>
                <a:gridCol w="1469880"/>
                <a:gridCol w="1549440"/>
                <a:gridCol w="1547640"/>
              </a:tblGrid>
              <a:tr h="27792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Бюджетн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2" row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орма участ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азмер участия бюджета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marL="228600">
                        <a:lnSpc>
                          <a:spcPct val="110000"/>
                        </a:lnSpc>
                        <a:tabLst>
                          <a:tab algn="l" pos="0"/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едера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бластно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Мест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ямое бюджетное финансир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Дор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плановую протяж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убсид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граммы государственной поддерж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отреб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инансовые вложения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Электроэнерг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ую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з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Вод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рант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л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 формы участ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емельный участок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азать адрес расположения земельного участка, указать площадь земельного участка, указать расчетную стоимость (аренды) участ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304920" y="15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04840" y="836640"/>
          <a:ext cx="8885160" cy="5854680"/>
        </p:xfrm>
        <a:graphic>
          <a:graphicData uri="http://schemas.openxmlformats.org/drawingml/2006/table">
            <a:tbl>
              <a:tblPr/>
              <a:tblGrid>
                <a:gridCol w="466560"/>
                <a:gridCol w="6377040"/>
                <a:gridCol w="1177920"/>
                <a:gridCol w="863640"/>
              </a:tblGrid>
              <a:tr h="263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циаль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хват населения социальными благами за период реализаци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чел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овые рабочие мес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Ед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едняя 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ячны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частие бюджетных источников в проект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и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 с 1 работника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евая выработка на одного работн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бюджетных инвестиц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я бюджетных сред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ческ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выручки 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прибыли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нтабельность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 в основной капитал в рамках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, осваиваемых на территории обл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 Box 293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301680" y="426960"/>
            <a:ext cx="8686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50920" y="1197000"/>
          <a:ext cx="8715240" cy="5157720"/>
        </p:xfrm>
        <a:graphic>
          <a:graphicData uri="http://schemas.openxmlformats.org/drawingml/2006/table">
            <a:tbl>
              <a:tblPr/>
              <a:tblGrid>
                <a:gridCol w="428400"/>
                <a:gridCol w="1876680"/>
                <a:gridCol w="3554280"/>
                <a:gridCol w="2855880"/>
              </a:tblGrid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Должность и основное место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Выполняемые в проекте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Чесноков Андрей Валерие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Заместитель начальника департамента внутренней и кадровой политики области – начальник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у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Шуваева Светлана Михайл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ьник отдела организационно-массовой работы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ловенко Екатерина Сергее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ециалист по работе с молодежью ОГБУ «Центр молодежных инициатив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ператор мониторинга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 Box 111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1"/>
          <p:cNvSpPr/>
          <p:nvPr/>
        </p:nvSpPr>
        <p:spPr>
          <a:xfrm>
            <a:off x="3348000" y="3500280"/>
            <a:ext cx="54720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Руководитель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3d3d3d"/>
                </a:solidFill>
                <a:latin typeface="Franklin Gothic Book"/>
              </a:rPr>
              <a:t>ФИ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2"/>
          <p:cNvSpPr/>
          <p:nvPr/>
        </p:nvSpPr>
        <p:spPr>
          <a:xfrm>
            <a:off x="181080" y="2205000"/>
            <a:ext cx="8686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826920" y="5538960"/>
            <a:ext cx="33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меститель начальника департамента внутренней и кадровой политики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732720" y="599292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ись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04920" y="439560"/>
            <a:ext cx="91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468360" y="1125360"/>
            <a:ext cx="84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9"/>
          <p:cNvSpPr/>
          <p:nvPr/>
        </p:nvSpPr>
        <p:spPr>
          <a:xfrm>
            <a:off x="561960" y="3424320"/>
            <a:ext cx="228132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УТВЕРЖДЕННОЙ ОРГАНИЗАЦИОННОЙ СТРУКТУРЫ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16"/>
          <p:cNvSpPr/>
          <p:nvPr/>
        </p:nvSpPr>
        <p:spPr>
          <a:xfrm>
            <a:off x="3492360" y="3451320"/>
            <a:ext cx="2266920" cy="24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СИСТЕМАТИЗИРОВАННОЙ ОБРАЗОВАТЕЛЬНОЙ ПРОГРАММЫ                      С ПОСЛЕДУЮЩЕЙ ОЦЕНКОЙ УРОВНЯ ЗНАНИЙ, ПОЛУЧЕННОГО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17"/>
          <p:cNvSpPr/>
          <p:nvPr/>
        </p:nvSpPr>
        <p:spPr>
          <a:xfrm>
            <a:off x="6475320" y="3446640"/>
            <a:ext cx="223200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КРИТЕРИЕВ ЭФФЕКТИВНОСТИ ПРОХОЖДЕНИЯ СТАЖИРОВОК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10"/>
          <p:cNvSpPr/>
          <p:nvPr/>
        </p:nvSpPr>
        <p:spPr>
          <a:xfrm>
            <a:off x="492120" y="2560680"/>
            <a:ext cx="8209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ПО ИТОГАМ ДЕЯТЕЛЬНОСТИ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 МОЖНО ВЫДЕЛИТЬ СЛЕДУЮЩИЕ ПРОБЛЕМНЫЕ МО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3"/>
          <p:cNvSpPr/>
          <p:nvPr/>
        </p:nvSpPr>
        <p:spPr>
          <a:xfrm>
            <a:off x="492120" y="1052640"/>
            <a:ext cx="820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НАСТОЯЩИЙ МОМЕНТ ИСТЕК СРОК ПОЛНОМОЧИЙ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, ОБЩАЯ ЧИСЛЕННОСТЬ КОТОРОГО СОСТАВЛЯЛА 16 ЧЕЛОВЕК, ВЫБРАННЫХ ПУТЁМ КОНКУРСНОГО ОТБОРА ИЗ ЧИСЛА ГРАЖДАН РОССИЙСКОЙ ФЕДЕРАЦИИ В ВОЗРАСТЕ ОТ 18 ДО 30 ЛЕТ, ПРОЖИВАЮЩИХ НА ТЕРРИТОРИИ БЕЛГОРОД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Овал 18"/>
          <p:cNvSpPr/>
          <p:nvPr/>
        </p:nvSpPr>
        <p:spPr>
          <a:xfrm>
            <a:off x="1258920" y="5832360"/>
            <a:ext cx="792000" cy="64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4229280" y="5864400"/>
            <a:ext cx="79200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7308720" y="5864400"/>
            <a:ext cx="79236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2" name="Прямая со стрелкой 20"/>
          <p:cNvCxnSpPr>
            <a:endCxn id="564" idx="0"/>
          </p:cNvCxnSpPr>
          <p:nvPr/>
        </p:nvCxnSpPr>
        <p:spPr>
          <a:xfrm>
            <a:off x="1703160" y="320832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3" name="Прямая со стрелкой 37"/>
          <p:cNvCxnSpPr/>
          <p:nvPr/>
        </p:nvCxnSpPr>
        <p:spPr>
          <a:xfrm>
            <a:off x="4597200" y="3233880"/>
            <a:ext cx="1080" cy="218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4" name="Прямая со стрелкой 38"/>
          <p:cNvCxnSpPr>
            <a:endCxn id="566" idx="0"/>
          </p:cNvCxnSpPr>
          <p:nvPr/>
        </p:nvCxnSpPr>
        <p:spPr>
          <a:xfrm>
            <a:off x="7590960" y="3233520"/>
            <a:ext cx="1080" cy="213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"/>
          <p:cNvSpPr/>
          <p:nvPr/>
        </p:nvSpPr>
        <p:spPr>
          <a:xfrm>
            <a:off x="301680" y="18900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42920" y="765000"/>
          <a:ext cx="8880480" cy="5931000"/>
        </p:xfrm>
        <a:graphic>
          <a:graphicData uri="http://schemas.openxmlformats.org/drawingml/2006/table">
            <a:tbl>
              <a:tblPr/>
              <a:tblGrid>
                <a:gridCol w="1797120"/>
                <a:gridCol w="7083360"/>
              </a:tblGrid>
              <a:tr h="63972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ь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К марту 2019 года обеспечить подготовку не менее 25 человек, обладающих компетенциями и навыками в области проектного управления для включения в кадрово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пособ достижения цели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Посредством организации деятельности молодежного правительства Белгородской области к марту 2019 года апробировать механизм отбора,                  практико-ориентированной подготовки и сопровождения социально-активной молодежи Белгородской обла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зультат проекта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 и апробирован механизм отбора, подготовки и сопровождения социально-активной молодежи Белгородской области, обеспечивающий включение не менее 25 молодых людей в кадровы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70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ребования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к результату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и утверждены НПА, регламентирующие создание и функционирование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 конкурсный отбор по формированию молодежного правительства  (не менее 100 заявок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карты компетенций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и утверждены графики прохождения стажировок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критерии эффективности прохождения стажиров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а и реализована образовательная программа (не менее 16 часов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а оценка полученных знаний членами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членами молодежного правительства реализованы проекты (не менее 3-х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ользователи результата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раждане Российской Федерации в возрасте от 21 до 30 лет, проживающие              на территории Белгородской обла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2"/>
          <p:cNvSpPr/>
          <p:nvPr/>
        </p:nvSpPr>
        <p:spPr>
          <a:xfrm>
            <a:off x="687240" y="18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(ОПИСАНИЕ СИТУАЦИИ «КАК БУДЕТ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189000" y="2135160"/>
            <a:ext cx="1557360" cy="150012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5" descr=""/>
          <p:cNvPicPr/>
          <p:nvPr/>
        </p:nvPicPr>
        <p:blipFill>
          <a:blip r:embed="rId2"/>
          <a:stretch/>
        </p:blipFill>
        <p:spPr>
          <a:xfrm>
            <a:off x="6473880" y="213516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6" descr=""/>
          <p:cNvPicPr/>
          <p:nvPr/>
        </p:nvPicPr>
        <p:blipFill>
          <a:blip r:embed="rId3"/>
          <a:stretch/>
        </p:blipFill>
        <p:spPr>
          <a:xfrm>
            <a:off x="2973240" y="2214720"/>
            <a:ext cx="1683000" cy="14205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7" descr=""/>
          <p:cNvPicPr/>
          <p:nvPr/>
        </p:nvPicPr>
        <p:blipFill>
          <a:blip r:embed="rId4"/>
          <a:stretch/>
        </p:blipFill>
        <p:spPr>
          <a:xfrm>
            <a:off x="4224240" y="4765680"/>
            <a:ext cx="1441440" cy="139068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8" descr=""/>
          <p:cNvPicPr/>
          <p:nvPr/>
        </p:nvPicPr>
        <p:blipFill>
          <a:blip r:embed="rId5"/>
          <a:stretch/>
        </p:blipFill>
        <p:spPr>
          <a:xfrm>
            <a:off x="3240" y="4624560"/>
            <a:ext cx="2098440" cy="15048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9"/>
          <p:cNvSpPr/>
          <p:nvPr/>
        </p:nvSpPr>
        <p:spPr>
          <a:xfrm>
            <a:off x="104760" y="1484280"/>
            <a:ext cx="18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Franklin Gothic Medium"/>
              </a:rPr>
              <a:t>Не менее 100 заяв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1857240" y="354816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1714680" y="2465280"/>
            <a:ext cx="1473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нкурса по формированию  молодежного правительств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3068640" y="159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Franklin Gothic Book"/>
              </a:rPr>
              <a:t>30 </a:t>
            </a:r>
            <a:r>
              <a:rPr b="0" lang="ru-RU" sz="1400" spc="-1" strike="noStrike">
                <a:solidFill>
                  <a:srgbClr val="ff0000"/>
                </a:solidFill>
                <a:latin typeface="Franklin Gothic Book"/>
              </a:rPr>
              <a:t>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17"/>
          <p:cNvSpPr/>
          <p:nvPr/>
        </p:nvSpPr>
        <p:spPr>
          <a:xfrm>
            <a:off x="4740120" y="2211480"/>
            <a:ext cx="20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составление карт компетен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мандообра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ыбор наставник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утверждение пл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и регламента работ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19"/>
          <p:cNvSpPr/>
          <p:nvPr/>
        </p:nvSpPr>
        <p:spPr>
          <a:xfrm>
            <a:off x="5070600" y="3649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21"/>
          <p:cNvSpPr/>
          <p:nvPr/>
        </p:nvSpPr>
        <p:spPr>
          <a:xfrm rot="20903400">
            <a:off x="4913280" y="42544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7667640" y="2187720"/>
            <a:ext cx="1882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хождение стажировок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клю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 состав команды прое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1979640" y="4775040"/>
            <a:ext cx="2244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разработка и реализация проектов молодежного прави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28"/>
          <p:cNvSpPr/>
          <p:nvPr/>
        </p:nvSpPr>
        <p:spPr>
          <a:xfrm>
            <a:off x="2506680" y="6129360"/>
            <a:ext cx="11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12 месяц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3" name="Прямая со стрелкой 29"/>
          <p:cNvCxnSpPr/>
          <p:nvPr/>
        </p:nvCxnSpPr>
        <p:spPr>
          <a:xfrm>
            <a:off x="4861080" y="3634920"/>
            <a:ext cx="149904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4" name="Прямая со стрелкой 31"/>
          <p:cNvCxnSpPr/>
          <p:nvPr/>
        </p:nvCxnSpPr>
        <p:spPr>
          <a:xfrm>
            <a:off x="1847520" y="3481200"/>
            <a:ext cx="1037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5" name="Прямая со стрелкой 34"/>
          <p:cNvCxnSpPr/>
          <p:nvPr/>
        </p:nvCxnSpPr>
        <p:spPr>
          <a:xfrm flipH="1">
            <a:off x="2101320" y="3701520"/>
            <a:ext cx="5834880" cy="92340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596" name="Рисунок 50" descr=""/>
          <p:cNvPicPr/>
          <p:nvPr/>
        </p:nvPicPr>
        <p:blipFill>
          <a:blip r:embed="rId6"/>
          <a:stretch/>
        </p:blipFill>
        <p:spPr>
          <a:xfrm>
            <a:off x="7245360" y="4842000"/>
            <a:ext cx="1649520" cy="14540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4"/>
          <p:cNvSpPr/>
          <p:nvPr/>
        </p:nvSpPr>
        <p:spPr>
          <a:xfrm>
            <a:off x="5830920" y="612936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53"/>
          <p:cNvSpPr/>
          <p:nvPr/>
        </p:nvSpPr>
        <p:spPr>
          <a:xfrm>
            <a:off x="5681520" y="501012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оказания содействия в трудоустройст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9" name="Прямая со стрелкой 29"/>
          <p:cNvCxnSpPr/>
          <p:nvPr/>
        </p:nvCxnSpPr>
        <p:spPr>
          <a:xfrm>
            <a:off x="2013120" y="6021000"/>
            <a:ext cx="21787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0" name="Прямая со стрелкой 32"/>
          <p:cNvCxnSpPr/>
          <p:nvPr/>
        </p:nvCxnSpPr>
        <p:spPr>
          <a:xfrm>
            <a:off x="5748120" y="6021000"/>
            <a:ext cx="1415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1960" y="404640"/>
            <a:ext cx="7627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2" name="Скругленный прямоугольник 9"/>
          <p:cNvSpPr/>
          <p:nvPr/>
        </p:nvSpPr>
        <p:spPr>
          <a:xfrm>
            <a:off x="2031840" y="1052640"/>
            <a:ext cx="6904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Ь БЕЛГОРОДСКОЙ ОБЛАСТИ В ВОЗРАСТЕ ОТ 21 ДО 30 ЛЕТ, ПРОЖИВАЮЩАЯ НА ТЕРРИТОРИИ 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Блок-схема: объединение 10"/>
          <p:cNvSpPr/>
          <p:nvPr/>
        </p:nvSpPr>
        <p:spPr>
          <a:xfrm>
            <a:off x="2185920" y="1623960"/>
            <a:ext cx="6715080" cy="378000"/>
          </a:xfrm>
          <a:prstGeom prst="flowChartMerg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21"/>
          <p:cNvSpPr/>
          <p:nvPr/>
        </p:nvSpPr>
        <p:spPr>
          <a:xfrm>
            <a:off x="2298600" y="2216160"/>
            <a:ext cx="208908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 муниципальных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бразован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24"/>
          <p:cNvSpPr/>
          <p:nvPr/>
        </p:nvSpPr>
        <p:spPr>
          <a:xfrm>
            <a:off x="4524480" y="2241720"/>
            <a:ext cx="2038320" cy="106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 общественных организац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25"/>
          <p:cNvSpPr/>
          <p:nvPr/>
        </p:nvSpPr>
        <p:spPr>
          <a:xfrm>
            <a:off x="6732720" y="2251080"/>
            <a:ext cx="194292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иные представители молодежи области, прошедшие конкурсный отбо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7" name="Прямая со стрелкой 27"/>
          <p:cNvCxnSpPr/>
          <p:nvPr/>
        </p:nvCxnSpPr>
        <p:spPr>
          <a:xfrm flipH="1">
            <a:off x="3563280" y="1807920"/>
            <a:ext cx="292680" cy="3862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8" name="Прямая со стрелкой 30"/>
          <p:cNvCxnSpPr>
            <a:stCxn id="603" idx="2"/>
          </p:cNvCxnSpPr>
          <p:nvPr/>
        </p:nvCxnSpPr>
        <p:spPr>
          <a:xfrm flipH="1">
            <a:off x="5542920" y="2001600"/>
            <a:ext cx="1080" cy="2149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9" name="Прямая со стрелкой 32"/>
          <p:cNvCxnSpPr/>
          <p:nvPr/>
        </p:nvCxnSpPr>
        <p:spPr>
          <a:xfrm>
            <a:off x="7222680" y="1808280"/>
            <a:ext cx="374040" cy="43416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10" name="Правая фигурная скобка 38"/>
          <p:cNvSpPr/>
          <p:nvPr/>
        </p:nvSpPr>
        <p:spPr>
          <a:xfrm rot="5400000">
            <a:off x="5279040" y="340200"/>
            <a:ext cx="409320" cy="6265800"/>
          </a:xfrm>
          <a:custGeom>
            <a:avLst/>
            <a:gdLst>
              <a:gd name="textAreaLeft" fmla="*/ 0 w 409320"/>
              <a:gd name="textAreaRight" fmla="*/ 147600 w 409320"/>
              <a:gd name="textAreaTop" fmla="*/ 10440 h 6265800"/>
              <a:gd name="textAreaBottom" fmla="*/ 6255360 h 62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Овал 39"/>
          <p:cNvSpPr/>
          <p:nvPr/>
        </p:nvSpPr>
        <p:spPr>
          <a:xfrm>
            <a:off x="4356000" y="4133880"/>
            <a:ext cx="2376720" cy="121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НОЕ ПРАВИТЕЛЬСТВО БЕЛГОРОДСКОЙ ОБЛАСТИ </a:t>
            </a:r>
            <a:br>
              <a:rPr sz="1400"/>
            </a:br>
            <a:r>
              <a:rPr b="0" lang="en-US" sz="1400" spc="-1" strike="noStrike">
                <a:solidFill>
                  <a:srgbClr val="0d0d0d"/>
                </a:solidFill>
                <a:latin typeface="Franklin Gothic Medium"/>
              </a:rPr>
              <a:t>VIII </a:t>
            </a: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ЗЫ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Левая фигурная скобка 77"/>
          <p:cNvSpPr/>
          <p:nvPr/>
        </p:nvSpPr>
        <p:spPr>
          <a:xfrm>
            <a:off x="1630440" y="1123920"/>
            <a:ext cx="216000" cy="232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322720"/>
              <a:gd name="textAreaBottom" fmla="*/ 2317320 h 23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8"/>
          <p:cNvSpPr/>
          <p:nvPr/>
        </p:nvSpPr>
        <p:spPr>
          <a:xfrm>
            <a:off x="27000" y="2108160"/>
            <a:ext cx="167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ФОРМ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СТА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83"/>
          <p:cNvSpPr/>
          <p:nvPr/>
        </p:nvSpPr>
        <p:spPr>
          <a:xfrm>
            <a:off x="1920960" y="4923000"/>
            <a:ext cx="255744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обучения для членов молодежного правительства 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99"/>
          <p:cNvSpPr/>
          <p:nvPr/>
        </p:nvSpPr>
        <p:spPr>
          <a:xfrm>
            <a:off x="1933560" y="3618000"/>
            <a:ext cx="259092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экспертно-аналитической деятельности членами молодежного правитель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100"/>
          <p:cNvSpPr/>
          <p:nvPr/>
        </p:nvSpPr>
        <p:spPr>
          <a:xfrm>
            <a:off x="6516720" y="3583080"/>
            <a:ext cx="241920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существление проектной деятельности членами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101"/>
          <p:cNvSpPr/>
          <p:nvPr/>
        </p:nvSpPr>
        <p:spPr>
          <a:xfrm>
            <a:off x="6585120" y="4960800"/>
            <a:ext cx="2390760" cy="81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стажировок в составе проектных групп органов исполнительной власти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8" name="Прямая со стрелкой 107"/>
          <p:cNvCxnSpPr/>
          <p:nvPr/>
        </p:nvCxnSpPr>
        <p:spPr>
          <a:xfrm flipV="1">
            <a:off x="4478400" y="5303520"/>
            <a:ext cx="614880" cy="3578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19" name="Прямая со стрелкой 117"/>
          <p:cNvCxnSpPr/>
          <p:nvPr/>
        </p:nvCxnSpPr>
        <p:spPr>
          <a:xfrm flipH="1" flipV="1">
            <a:off x="5992200" y="5303520"/>
            <a:ext cx="592920" cy="3974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20" name="Левая фигурная скобка 122"/>
          <p:cNvSpPr/>
          <p:nvPr/>
        </p:nvSpPr>
        <p:spPr>
          <a:xfrm>
            <a:off x="1630440" y="3598920"/>
            <a:ext cx="216000" cy="217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178000"/>
              <a:gd name="textAreaBottom" fmla="*/ 2172600 h 21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123"/>
          <p:cNvSpPr/>
          <p:nvPr/>
        </p:nvSpPr>
        <p:spPr>
          <a:xfrm>
            <a:off x="33480" y="4437000"/>
            <a:ext cx="15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авая фигурная скобка 139"/>
          <p:cNvSpPr/>
          <p:nvPr/>
        </p:nvSpPr>
        <p:spPr>
          <a:xfrm rot="5400000">
            <a:off x="5276520" y="2350800"/>
            <a:ext cx="315720" cy="7034040"/>
          </a:xfrm>
          <a:custGeom>
            <a:avLst/>
            <a:gdLst>
              <a:gd name="textAreaLeft" fmla="*/ 0 w 315720"/>
              <a:gd name="textAreaRight" fmla="*/ 114120 w 315720"/>
              <a:gd name="textAreaTop" fmla="*/ 19080 h 7034040"/>
              <a:gd name="textAreaBottom" fmla="*/ 7014960 h 703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140"/>
          <p:cNvSpPr/>
          <p:nvPr/>
        </p:nvSpPr>
        <p:spPr>
          <a:xfrm>
            <a:off x="1846440" y="6016680"/>
            <a:ext cx="708948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Разработан и апробирован механизм отбора, подготовки и сопровождения социально-активной молодежи  Белгородской области, обеспечивающей включение не менее 25 молодых людей региона в кадровый резер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Левая фигурная скобка 141"/>
          <p:cNvSpPr/>
          <p:nvPr/>
        </p:nvSpPr>
        <p:spPr>
          <a:xfrm>
            <a:off x="1596960" y="6016680"/>
            <a:ext cx="216000" cy="663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663480"/>
              <a:gd name="textAreaBottom" fmla="*/ 65808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6"/>
                </a:cubicBezTo>
                <a:lnTo>
                  <a:pt x="10800" y="10214"/>
                </a:lnTo>
                <a:cubicBezTo>
                  <a:pt x="10800" y="10507"/>
                  <a:pt x="5400" y="10800"/>
                  <a:pt x="0" y="10800"/>
                </a:cubicBezTo>
                <a:cubicBezTo>
                  <a:pt x="5400" y="10800"/>
                  <a:pt x="10800" y="11093"/>
                  <a:pt x="10800" y="11386"/>
                </a:cubicBezTo>
                <a:lnTo>
                  <a:pt x="10800" y="21014"/>
                </a:lnTo>
                <a:cubicBezTo>
                  <a:pt x="10800" y="213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42"/>
          <p:cNvSpPr/>
          <p:nvPr/>
        </p:nvSpPr>
        <p:spPr>
          <a:xfrm>
            <a:off x="274680" y="614520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РЕЗУЛЬТ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6" name="Прямая со стрелкой 6"/>
          <p:cNvCxnSpPr/>
          <p:nvPr/>
        </p:nvCxnSpPr>
        <p:spPr>
          <a:xfrm flipH="1" flipV="1">
            <a:off x="4477680" y="3944160"/>
            <a:ext cx="525960" cy="276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27" name="Прямая со стрелкой 19"/>
          <p:cNvCxnSpPr/>
          <p:nvPr/>
        </p:nvCxnSpPr>
        <p:spPr>
          <a:xfrm flipV="1">
            <a:off x="5940000" y="3975840"/>
            <a:ext cx="577080" cy="212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04920" y="1197000"/>
            <a:ext cx="84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ОРГАНИЗАЦИОННАЯ СТРУКТУРА ДЕЯТЕЛЬ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МОЛОДЕЖНОГО ПРАВИТЕЛЬСТВА БЕЛГОРОДСКОЙ ОБЛАСТ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1"/>
          <p:cNvSpPr/>
          <p:nvPr/>
        </p:nvSpPr>
        <p:spPr>
          <a:xfrm>
            <a:off x="4697280" y="1895400"/>
            <a:ext cx="3241800" cy="64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ЕДАТЕЛЬ МОЛОДЕЖНОГО ПРАВИТЕЛЬСТВА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5"/>
          <p:cNvSpPr/>
          <p:nvPr/>
        </p:nvSpPr>
        <p:spPr>
          <a:xfrm>
            <a:off x="3514680" y="280368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15"/>
          <p:cNvSpPr/>
          <p:nvPr/>
        </p:nvSpPr>
        <p:spPr>
          <a:xfrm>
            <a:off x="3514680" y="4508640"/>
            <a:ext cx="1852560" cy="144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16"/>
          <p:cNvSpPr/>
          <p:nvPr/>
        </p:nvSpPr>
        <p:spPr>
          <a:xfrm>
            <a:off x="5508720" y="452592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17"/>
          <p:cNvSpPr/>
          <p:nvPr/>
        </p:nvSpPr>
        <p:spPr>
          <a:xfrm>
            <a:off x="7319880" y="454176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ИНЫЕ ПРЕДСТАВИТЕЛИ МОЛОДЕЖИ, ПРОШЕДШИЕ 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Прямая со стрелкой 23"/>
          <p:cNvCxnSpPr/>
          <p:nvPr/>
        </p:nvCxnSpPr>
        <p:spPr>
          <a:xfrm flipH="1">
            <a:off x="4284360" y="2542680"/>
            <a:ext cx="504000" cy="259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6" name="Прямая со стрелкой 29"/>
          <p:cNvCxnSpPr/>
          <p:nvPr/>
        </p:nvCxnSpPr>
        <p:spPr>
          <a:xfrm>
            <a:off x="7885080" y="2543040"/>
            <a:ext cx="38952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7" name="Прямая со стрелкой 41"/>
          <p:cNvCxnSpPr/>
          <p:nvPr/>
        </p:nvCxnSpPr>
        <p:spPr>
          <a:xfrm>
            <a:off x="4414320" y="42084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8" name="Скругленный прямоугольник 45"/>
          <p:cNvSpPr/>
          <p:nvPr/>
        </p:nvSpPr>
        <p:spPr>
          <a:xfrm>
            <a:off x="5479920" y="2813040"/>
            <a:ext cx="167652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49"/>
          <p:cNvSpPr/>
          <p:nvPr/>
        </p:nvSpPr>
        <p:spPr>
          <a:xfrm>
            <a:off x="7304040" y="281304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Прямая со стрелкой 50"/>
          <p:cNvCxnSpPr/>
          <p:nvPr/>
        </p:nvCxnSpPr>
        <p:spPr>
          <a:xfrm>
            <a:off x="6318000" y="254304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1" name="Прямая со стрелкой 51"/>
          <p:cNvCxnSpPr/>
          <p:nvPr/>
        </p:nvCxnSpPr>
        <p:spPr>
          <a:xfrm>
            <a:off x="6356160" y="4198680"/>
            <a:ext cx="1080" cy="270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2" name="Прямая со стрелкой 52"/>
          <p:cNvCxnSpPr/>
          <p:nvPr/>
        </p:nvCxnSpPr>
        <p:spPr>
          <a:xfrm>
            <a:off x="8187840" y="42210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3" name="Левая фигурная скобка 53"/>
          <p:cNvSpPr/>
          <p:nvPr/>
        </p:nvSpPr>
        <p:spPr>
          <a:xfrm>
            <a:off x="3112920" y="1871640"/>
            <a:ext cx="398520" cy="4006800"/>
          </a:xfrm>
          <a:custGeom>
            <a:avLst/>
            <a:gdLst>
              <a:gd name="textAreaLeft" fmla="*/ 254520 w 398520"/>
              <a:gd name="textAreaRight" fmla="*/ 398880 w 398520"/>
              <a:gd name="textAreaTop" fmla="*/ 10080 h 4006800"/>
              <a:gd name="textAreaBottom" fmla="*/ 3996720 h 400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Овал 46"/>
          <p:cNvSpPr/>
          <p:nvPr/>
        </p:nvSpPr>
        <p:spPr>
          <a:xfrm>
            <a:off x="858960" y="3324240"/>
            <a:ext cx="2232000" cy="1101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Скругленный прямоугольник 47"/>
          <p:cNvSpPr/>
          <p:nvPr/>
        </p:nvSpPr>
        <p:spPr>
          <a:xfrm>
            <a:off x="249120" y="1895400"/>
            <a:ext cx="2952720" cy="86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Скругленный прямоугольник 59"/>
          <p:cNvSpPr/>
          <p:nvPr/>
        </p:nvSpPr>
        <p:spPr>
          <a:xfrm>
            <a:off x="304920" y="5022720"/>
            <a:ext cx="289692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Двойная стрелка вверх/вниз 48"/>
          <p:cNvSpPr/>
          <p:nvPr/>
        </p:nvSpPr>
        <p:spPr>
          <a:xfrm>
            <a:off x="1900080" y="2760840"/>
            <a:ext cx="138240" cy="563400"/>
          </a:xfrm>
          <a:prstGeom prst="upDownArrow">
            <a:avLst>
              <a:gd name="adj1" fmla="val 50000"/>
              <a:gd name="adj2" fmla="val 5022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трелка вверх 54"/>
          <p:cNvSpPr/>
          <p:nvPr/>
        </p:nvSpPr>
        <p:spPr>
          <a:xfrm>
            <a:off x="1900080" y="4425840"/>
            <a:ext cx="138240" cy="596880"/>
          </a:xfrm>
          <a:prstGeom prst="upArrow">
            <a:avLst>
              <a:gd name="adj1" fmla="val 50000"/>
              <a:gd name="adj2" fmla="val 50133"/>
            </a:avLst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55"/>
          <p:cNvSpPr/>
          <p:nvPr/>
        </p:nvSpPr>
        <p:spPr>
          <a:xfrm>
            <a:off x="249120" y="442584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ордин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60"/>
          <p:cNvSpPr/>
          <p:nvPr/>
        </p:nvSpPr>
        <p:spPr>
          <a:xfrm>
            <a:off x="249120" y="2813040"/>
            <a:ext cx="14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охождение стажиров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2"/>
          <p:cNvSpPr/>
          <p:nvPr/>
        </p:nvSpPr>
        <p:spPr>
          <a:xfrm>
            <a:off x="539640" y="1197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АЛГОРИТМ ОРГАНИЗАЦИИ ОБРАЗОВАТЕЛЬНОЙ ДЕЯТЕЛЬНОСТИ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3"/>
          <p:cNvSpPr/>
          <p:nvPr/>
        </p:nvSpPr>
        <p:spPr>
          <a:xfrm>
            <a:off x="1979640" y="1781280"/>
            <a:ext cx="504036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КАРТ КОМПЕТЕНЦИЙ ДЛЯ КАЖДОГО ЧЛЕНА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ЁЖНОГО ПРАВИТЕЛЬСТВА БЕЛГОРОДСКОЙ ОБЛАСТИ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26"/>
          <p:cNvSpPr/>
          <p:nvPr/>
        </p:nvSpPr>
        <p:spPr>
          <a:xfrm>
            <a:off x="1979640" y="2492280"/>
            <a:ext cx="5040360" cy="56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ОБРАЗОВАТЕЛЬНЫХ ПРОГРАММ,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 УЧЕТОМ РАЗРАБОТАННЫХ КАРТ КОМПЕТЕН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28"/>
          <p:cNvSpPr/>
          <p:nvPr/>
        </p:nvSpPr>
        <p:spPr>
          <a:xfrm>
            <a:off x="1008000" y="3235320"/>
            <a:ext cx="2376720" cy="5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ТЕОРЕ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30"/>
          <p:cNvSpPr/>
          <p:nvPr/>
        </p:nvSpPr>
        <p:spPr>
          <a:xfrm>
            <a:off x="5435640" y="3218040"/>
            <a:ext cx="25210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АК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Скругленный прямоугольник 7"/>
          <p:cNvSpPr/>
          <p:nvPr/>
        </p:nvSpPr>
        <p:spPr>
          <a:xfrm>
            <a:off x="971640" y="392256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8"/>
          <p:cNvSpPr/>
          <p:nvPr/>
        </p:nvSpPr>
        <p:spPr>
          <a:xfrm>
            <a:off x="971640" y="4581360"/>
            <a:ext cx="2448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БРАЗОВАТЕЛЬНОЙ ПРОГРАММ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10"/>
          <p:cNvSpPr/>
          <p:nvPr/>
        </p:nvSpPr>
        <p:spPr>
          <a:xfrm>
            <a:off x="4538520" y="3922560"/>
            <a:ext cx="168912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ЭКСПЕРТНО-АНАЛИТИЧЕСК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11"/>
          <p:cNvSpPr/>
          <p:nvPr/>
        </p:nvSpPr>
        <p:spPr>
          <a:xfrm>
            <a:off x="971640" y="544500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Ы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12"/>
          <p:cNvSpPr/>
          <p:nvPr/>
        </p:nvSpPr>
        <p:spPr>
          <a:xfrm>
            <a:off x="5148360" y="4879800"/>
            <a:ext cx="154764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ЕКТН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13"/>
          <p:cNvSpPr/>
          <p:nvPr/>
        </p:nvSpPr>
        <p:spPr>
          <a:xfrm>
            <a:off x="7596360" y="3922560"/>
            <a:ext cx="13683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ТАЖИРО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14"/>
          <p:cNvSpPr/>
          <p:nvPr/>
        </p:nvSpPr>
        <p:spPr>
          <a:xfrm>
            <a:off x="6912000" y="4869000"/>
            <a:ext cx="1476360" cy="83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БОТА С КЕЙ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Прямая со стрелкой 4"/>
          <p:cNvCxnSpPr>
            <a:stCxn id="653" idx="2"/>
            <a:endCxn id="654" idx="0"/>
          </p:cNvCxnSpPr>
          <p:nvPr/>
        </p:nvCxnSpPr>
        <p:spPr>
          <a:xfrm>
            <a:off x="4500360" y="234900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5" name="Прямая со стрелкой 17"/>
          <p:cNvCxnSpPr/>
          <p:nvPr/>
        </p:nvCxnSpPr>
        <p:spPr>
          <a:xfrm>
            <a:off x="2230200" y="309204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6" name="Прямая со стрелкой 18"/>
          <p:cNvCxnSpPr/>
          <p:nvPr/>
        </p:nvCxnSpPr>
        <p:spPr>
          <a:xfrm>
            <a:off x="6803640" y="3058920"/>
            <a:ext cx="1080" cy="1447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7" name="Прямая со стрелкой 19"/>
          <p:cNvCxnSpPr/>
          <p:nvPr/>
        </p:nvCxnSpPr>
        <p:spPr>
          <a:xfrm>
            <a:off x="2230200" y="378900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8" name="Прямая со стрелкой 20"/>
          <p:cNvCxnSpPr/>
          <p:nvPr/>
        </p:nvCxnSpPr>
        <p:spPr>
          <a:xfrm>
            <a:off x="2230200" y="443664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9" name="Прямая со стрелкой 21"/>
          <p:cNvCxnSpPr/>
          <p:nvPr/>
        </p:nvCxnSpPr>
        <p:spPr>
          <a:xfrm>
            <a:off x="2230200" y="5300280"/>
            <a:ext cx="1080" cy="1447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0" name="Прямая со стрелкой 22"/>
          <p:cNvCxnSpPr/>
          <p:nvPr/>
        </p:nvCxnSpPr>
        <p:spPr>
          <a:xfrm>
            <a:off x="5455800" y="3768480"/>
            <a:ext cx="1080" cy="144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1" name="Прямая со стрелкой 23"/>
          <p:cNvCxnSpPr/>
          <p:nvPr/>
        </p:nvCxnSpPr>
        <p:spPr>
          <a:xfrm>
            <a:off x="7957800" y="3754080"/>
            <a:ext cx="1080" cy="143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2" name="Прямая со стрелкой 24"/>
          <p:cNvCxnSpPr/>
          <p:nvPr/>
        </p:nvCxnSpPr>
        <p:spPr>
          <a:xfrm>
            <a:off x="6372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3" name="Прямая со стрелкой 27"/>
          <p:cNvCxnSpPr/>
          <p:nvPr/>
        </p:nvCxnSpPr>
        <p:spPr>
          <a:xfrm>
            <a:off x="7164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4" name="Скругленный прямоугольник 29"/>
          <p:cNvSpPr/>
          <p:nvPr/>
        </p:nvSpPr>
        <p:spPr>
          <a:xfrm>
            <a:off x="30492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СПЕШ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31"/>
          <p:cNvSpPr/>
          <p:nvPr/>
        </p:nvSpPr>
        <p:spPr>
          <a:xfrm>
            <a:off x="230508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ЕУДА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6" name="Прямая со стрелкой 32"/>
          <p:cNvCxnSpPr/>
          <p:nvPr/>
        </p:nvCxnSpPr>
        <p:spPr>
          <a:xfrm>
            <a:off x="1077480" y="5959080"/>
            <a:ext cx="39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7" name="Прямая со стрелкой 33"/>
          <p:cNvCxnSpPr/>
          <p:nvPr/>
        </p:nvCxnSpPr>
        <p:spPr>
          <a:xfrm>
            <a:off x="3276720" y="5959080"/>
            <a:ext cx="21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78" name="Прямая соединительная линия 35"/>
          <p:cNvSpPr/>
          <p:nvPr/>
        </p:nvSpPr>
        <p:spPr>
          <a:xfrm>
            <a:off x="3852720" y="6399360"/>
            <a:ext cx="3797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9" name="Прямая со стрелкой 37"/>
          <p:cNvCxnSpPr>
            <a:endCxn id="663" idx="2"/>
          </p:cNvCxnSpPr>
          <p:nvPr/>
        </p:nvCxnSpPr>
        <p:spPr>
          <a:xfrm flipV="1">
            <a:off x="7649640" y="5702040"/>
            <a:ext cx="1080" cy="697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80" name="TextBox 38"/>
          <p:cNvSpPr/>
          <p:nvPr/>
        </p:nvSpPr>
        <p:spPr>
          <a:xfrm>
            <a:off x="4167360" y="5877000"/>
            <a:ext cx="31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ВЕЛИЧЕНИЕ ОБЪЕМА ЗАДАНИЙ </a:t>
            </a:r>
            <a:br>
              <a:rPr sz="1200"/>
            </a:b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О  ТЕМАТИКЕ ОБРАЗОВАТЕЛЬНОГО БЛО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2"/>
          <p:cNvSpPr/>
          <p:nvPr/>
        </p:nvSpPr>
        <p:spPr>
          <a:xfrm>
            <a:off x="61128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Прямоугольник 3"/>
          <p:cNvSpPr/>
          <p:nvPr/>
        </p:nvSpPr>
        <p:spPr>
          <a:xfrm>
            <a:off x="1187280" y="1125360"/>
            <a:ext cx="69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АЛГОРИТМ ОРГАНИЗАЦИИ СТАЖИРОВОК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"/>
          <p:cNvSpPr/>
          <p:nvPr/>
        </p:nvSpPr>
        <p:spPr>
          <a:xfrm>
            <a:off x="5940360" y="5872320"/>
            <a:ext cx="2933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РЕГИОНАЛЬНОГО УРОВН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5"/>
          <p:cNvSpPr/>
          <p:nvPr/>
        </p:nvSpPr>
        <p:spPr>
          <a:xfrm>
            <a:off x="426960" y="5872320"/>
            <a:ext cx="30974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АНЫ ИСПОЛНИТЕЛЬНОЙ ВЛАСТИ МУНИЦИПАЛЬНОГО УРОВНЯ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8"/>
          <p:cNvSpPr/>
          <p:nvPr/>
        </p:nvSpPr>
        <p:spPr>
          <a:xfrm>
            <a:off x="5867280" y="1773360"/>
            <a:ext cx="3078360" cy="56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15"/>
          <p:cNvSpPr/>
          <p:nvPr/>
        </p:nvSpPr>
        <p:spPr>
          <a:xfrm>
            <a:off x="1835280" y="3019320"/>
            <a:ext cx="5160960" cy="1513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16"/>
          <p:cNvSpPr/>
          <p:nvPr/>
        </p:nvSpPr>
        <p:spPr>
          <a:xfrm>
            <a:off x="1841400" y="3581280"/>
            <a:ext cx="1683000" cy="936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18"/>
          <p:cNvSpPr/>
          <p:nvPr/>
        </p:nvSpPr>
        <p:spPr>
          <a:xfrm>
            <a:off x="3524400" y="3619440"/>
            <a:ext cx="1690560" cy="9129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19"/>
          <p:cNvSpPr/>
          <p:nvPr/>
        </p:nvSpPr>
        <p:spPr>
          <a:xfrm>
            <a:off x="5227560" y="3624120"/>
            <a:ext cx="1768680" cy="903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0" name="Прямая со стрелкой 21"/>
          <p:cNvCxnSpPr>
            <a:stCxn id="687" idx="2"/>
          </p:cNvCxnSpPr>
          <p:nvPr/>
        </p:nvCxnSpPr>
        <p:spPr>
          <a:xfrm>
            <a:off x="2682360" y="4518000"/>
            <a:ext cx="1080" cy="1355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1" name="TextBox 24"/>
          <p:cNvSpPr/>
          <p:nvPr/>
        </p:nvSpPr>
        <p:spPr>
          <a:xfrm>
            <a:off x="2633760" y="4940280"/>
            <a:ext cx="175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2" name="Прямая со стрелкой 26"/>
          <p:cNvCxnSpPr/>
          <p:nvPr/>
        </p:nvCxnSpPr>
        <p:spPr>
          <a:xfrm flipV="1">
            <a:off x="2268000" y="4527000"/>
            <a:ext cx="1080" cy="1354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93" name="TextBox 28"/>
          <p:cNvSpPr/>
          <p:nvPr/>
        </p:nvSpPr>
        <p:spPr>
          <a:xfrm>
            <a:off x="258840" y="45813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Прямая со стрелкой 31"/>
          <p:cNvCxnSpPr/>
          <p:nvPr/>
        </p:nvCxnSpPr>
        <p:spPr>
          <a:xfrm>
            <a:off x="6352920" y="4527720"/>
            <a:ext cx="1080" cy="1373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5" name="TextBox 32"/>
          <p:cNvSpPr/>
          <p:nvPr/>
        </p:nvSpPr>
        <p:spPr>
          <a:xfrm>
            <a:off x="4695840" y="486720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Прямая соединительная линия 34"/>
          <p:cNvSpPr/>
          <p:nvPr/>
        </p:nvSpPr>
        <p:spPr>
          <a:xfrm>
            <a:off x="4608360" y="4532400"/>
            <a:ext cx="0" cy="15955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7" name="Прямая со стрелкой 36"/>
          <p:cNvCxnSpPr>
            <a:endCxn id="683" idx="1"/>
          </p:cNvCxnSpPr>
          <p:nvPr/>
        </p:nvCxnSpPr>
        <p:spPr>
          <a:xfrm>
            <a:off x="4608360" y="6127560"/>
            <a:ext cx="13327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8" name="Прямая соединительная линия 40"/>
          <p:cNvSpPr/>
          <p:nvPr/>
        </p:nvSpPr>
        <p:spPr>
          <a:xfrm flipV="1">
            <a:off x="6996240" y="4797360"/>
            <a:ext cx="0" cy="10749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Прямая соединительная линия 43"/>
          <p:cNvSpPr/>
          <p:nvPr/>
        </p:nvSpPr>
        <p:spPr>
          <a:xfrm>
            <a:off x="4932360" y="4797360"/>
            <a:ext cx="206388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0" name="Прямая со стрелкой 45"/>
          <p:cNvCxnSpPr/>
          <p:nvPr/>
        </p:nvCxnSpPr>
        <p:spPr>
          <a:xfrm flipV="1">
            <a:off x="4932000" y="4532040"/>
            <a:ext cx="1080" cy="265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1" name="Прямая соединительная линия 46"/>
          <p:cNvSpPr/>
          <p:nvPr/>
        </p:nvSpPr>
        <p:spPr>
          <a:xfrm flipV="1">
            <a:off x="7236000" y="4094280"/>
            <a:ext cx="0" cy="18064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Прямая со стрелкой 52"/>
          <p:cNvCxnSpPr/>
          <p:nvPr/>
        </p:nvCxnSpPr>
        <p:spPr>
          <a:xfrm flipH="1" flipV="1">
            <a:off x="6995880" y="4074480"/>
            <a:ext cx="240480" cy="198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3" name="Прямая соединительная линия 57"/>
          <p:cNvSpPr/>
          <p:nvPr/>
        </p:nvSpPr>
        <p:spPr>
          <a:xfrm flipH="1">
            <a:off x="2922480" y="2055960"/>
            <a:ext cx="294480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4" name="Прямая со стрелкой 59"/>
          <p:cNvCxnSpPr/>
          <p:nvPr/>
        </p:nvCxnSpPr>
        <p:spPr>
          <a:xfrm>
            <a:off x="2922120" y="2055960"/>
            <a:ext cx="1080" cy="964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705" name="Прямая со стрелкой 62"/>
          <p:cNvCxnSpPr/>
          <p:nvPr/>
        </p:nvCxnSpPr>
        <p:spPr>
          <a:xfrm flipV="1">
            <a:off x="5940000" y="2339280"/>
            <a:ext cx="1080" cy="680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6" name="TextBox 176127"/>
          <p:cNvSpPr/>
          <p:nvPr/>
        </p:nvSpPr>
        <p:spPr>
          <a:xfrm>
            <a:off x="5832360" y="2446200"/>
            <a:ext cx="225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ОТЧЁТНОСТ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176130"/>
          <p:cNvSpPr/>
          <p:nvPr/>
        </p:nvSpPr>
        <p:spPr>
          <a:xfrm>
            <a:off x="179280" y="1884240"/>
            <a:ext cx="288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ЗРАБОТКА КРИТЕРИЕВ ЭФФЕКТИВНОСТИ ПРОХОЖДЕНИЯ СТАЖИРОВОК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КОНТРОЛЬ КАЧЕСТВА ПРОХОЖДЕНИЯ СТАЖИРОВОК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29"/>
          <p:cNvSpPr/>
          <p:nvPr/>
        </p:nvSpPr>
        <p:spPr>
          <a:xfrm>
            <a:off x="7236000" y="45417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79200" y="692280"/>
          <a:ext cx="8912520" cy="5830920"/>
        </p:xfrm>
        <a:graphic>
          <a:graphicData uri="http://schemas.openxmlformats.org/drawingml/2006/table">
            <a:tbl>
              <a:tblPr/>
              <a:tblGrid>
                <a:gridCol w="382680"/>
                <a:gridCol w="1673280"/>
                <a:gridCol w="1321560"/>
                <a:gridCol w="954720"/>
                <a:gridCol w="945720"/>
                <a:gridCol w="226800"/>
                <a:gridCol w="227160"/>
                <a:gridCol w="226800"/>
                <a:gridCol w="225720"/>
                <a:gridCol w="226800"/>
                <a:gridCol w="227160"/>
                <a:gridCol w="226800"/>
                <a:gridCol w="227160"/>
                <a:gridCol w="227160"/>
                <a:gridCol w="226800"/>
                <a:gridCol w="228600"/>
                <a:gridCol w="216000"/>
                <a:gridCol w="244440"/>
                <a:gridCol w="226800"/>
                <a:gridCol w="227160"/>
                <a:gridCol w="22320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ка и утверждение НПА, регламентирующих создание и функционирование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02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конкурса по формированию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VIII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а молодежного правительства Белгородской области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.01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4.04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и проведение командобразующих мероприятий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5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5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стажировок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2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8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cp:keywords/>
  <dc:language>en-US</dc:language>
  <cp:lastModifiedBy>Анна Немцева</cp:lastModifiedBy>
  <cp:lastPrinted>2017-01-15T15:34:20Z</cp:lastPrinted>
  <dcterms:modified xsi:type="dcterms:W3CDTF">2017-01-27T08:55:42Z</dcterms:modified>
  <cp:revision>912</cp:revision>
  <dc:subject/>
  <dc:title>Слайд 1</dc:title>
</cp:coreProperties>
</file>